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E89D-BB16-4C64-80B2-7714A7090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B910-9AE8-4F17-9D26-2D07B2B70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1C49-34D7-4BB5-9177-7EFF941A7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1927-AB54-496B-A180-E0B942CBB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F64D-09B7-4627-AE01-8706261BC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98F3-312C-4A60-A163-9AE755114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853B-F0C4-4210-ADA8-B1FE2566A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0638-E161-4432-B117-228168BCC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BB37-2C31-4299-8513-3FC072084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05F1-3B4F-46E8-A4ED-B10712398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84F6-8F4F-40B1-B3B2-ADD66E6CA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2E9D-F970-4A67-B675-04666AC44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505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28959-6914-4BCA-8B61-1ACBED9A1D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Evil%20laugh.wav" TargetMode="External"/><Relationship Id="rId2" Type="http://schemas.microsoft.com/office/2007/relationships/media" Target="file:///tmp/home/.config/libreoffice/4/user/gallery/Evil%20laugh.wav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CREAK.WAV" TargetMode="External"/><Relationship Id="rId2" Type="http://schemas.microsoft.com/office/2007/relationships/media" Target="file:///tmp/home/.config/libreoffice/4/user/gallery/CREAK.WAV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SCREAM.WAV" TargetMode="External"/><Relationship Id="rId2" Type="http://schemas.microsoft.com/office/2007/relationships/media" Target="file:///tmp/home/.config/libreoffice/4/user/gallery/SCREAM.WAV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SCRAKE.WAV" TargetMode="External"/><Relationship Id="rId2" Type="http://schemas.microsoft.com/office/2007/relationships/media" Target="file:///tmp/home/.config/libreoffice/4/user/gallery/SCRAKE.WAV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0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505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533520" y="4572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2" name="Haunted%20house" descr=""/>
          <p:cNvPicPr/>
          <p:nvPr/>
        </p:nvPicPr>
        <p:blipFill>
          <a:blip r:embed="rId4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1828800" y="0"/>
            <a:ext cx="52578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3333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Chiller"/>
              </a:rPr>
              <a:t>The Old Houe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100000">
                    <a:srgbClr val="3333cc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Chiller"/>
              <a:ea typeface="Chille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505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629400" y="1676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523880" y="3962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75" name="Grandfather%20clock" descr=""/>
          <p:cNvPicPr/>
          <p:nvPr/>
        </p:nvPicPr>
        <p:blipFill>
          <a:blip r:embed="rId3"/>
          <a:stretch/>
        </p:blipFill>
        <p:spPr>
          <a:xfrm>
            <a:off x="533520" y="228600"/>
            <a:ext cx="2593800" cy="6248520"/>
          </a:xfrm>
          <a:prstGeom prst="rect">
            <a:avLst/>
          </a:prstGeom>
          <a:ln w="0">
            <a:noFill/>
          </a:ln>
        </p:spPr>
      </p:pic>
      <p:pic>
        <p:nvPicPr>
          <p:cNvPr id="76" name="Bats" descr=""/>
          <p:cNvPicPr/>
          <p:nvPr/>
        </p:nvPicPr>
        <p:blipFill>
          <a:blip r:embed="rId4"/>
          <a:stretch/>
        </p:blipFill>
        <p:spPr>
          <a:xfrm>
            <a:off x="5715000" y="914400"/>
            <a:ext cx="2819520" cy="18795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2743200" y="3429000"/>
            <a:ext cx="473868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igh Tower Text"/>
              </a:rPr>
              <a:t>THE EN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igh Tower Text"/>
              <a:ea typeface="High Tower Text"/>
            </a:endParaRPr>
          </a:p>
        </p:txBody>
      </p:sp>
      <p:pic>
        <p:nvPicPr>
          <p:cNvPr id="78" name="Mouse" descr=""/>
          <p:cNvPicPr/>
          <p:nvPr/>
        </p:nvPicPr>
        <p:blipFill>
          <a:blip r:embed="rId5"/>
          <a:stretch/>
        </p:blipFill>
        <p:spPr>
          <a:xfrm>
            <a:off x="4343400" y="5178600"/>
            <a:ext cx="2593800" cy="16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505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5334120" y="2286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5" name="Door" descr=""/>
          <p:cNvPicPr/>
          <p:nvPr/>
        </p:nvPicPr>
        <p:blipFill>
          <a:blip r:embed="rId4"/>
          <a:stretch/>
        </p:blipFill>
        <p:spPr>
          <a:xfrm>
            <a:off x="4495680" y="743040"/>
            <a:ext cx="3829320" cy="6114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304920" y="304920"/>
            <a:ext cx="5153040" cy="99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igh Tower Text"/>
              </a:rPr>
              <a:t>In the old,old houes was an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igh Tower Text"/>
              <a:ea typeface="High Tower Text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09480" y="3048120"/>
            <a:ext cx="2590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igh Tower Text"/>
              </a:rPr>
              <a:t>old,old doo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igh Tower Text"/>
              <a:ea typeface="High Tower Tex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505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5181480" y="2971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9" name="Stairs" descr=""/>
          <p:cNvPicPr/>
          <p:nvPr/>
        </p:nvPicPr>
        <p:blipFill>
          <a:blip r:embed="rId4"/>
          <a:stretch/>
        </p:blipFill>
        <p:spPr>
          <a:xfrm>
            <a:off x="4419720" y="304920"/>
            <a:ext cx="5454360" cy="58640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380880" y="533520"/>
            <a:ext cx="438156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igh Tower Text"/>
              </a:rPr>
              <a:t>Behind the old,old doo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igh Tower Text"/>
              <a:ea typeface="High Tower Tex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0" y="3886200"/>
            <a:ext cx="439092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igh Tower Text"/>
              </a:rPr>
              <a:t>were some old,old step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igh Tower Text"/>
              <a:ea typeface="High Tower Text"/>
            </a:endParaRPr>
          </a:p>
        </p:txBody>
      </p:sp>
      <p:pic>
        <p:nvPicPr>
          <p:cNvPr id="52" name="Footsteps" descr=""/>
          <p:cNvPicPr/>
          <p:nvPr/>
        </p:nvPicPr>
        <p:blipFill>
          <a:blip r:embed="rId5"/>
          <a:stretch/>
        </p:blipFill>
        <p:spPr>
          <a:xfrm>
            <a:off x="4876920" y="4191120"/>
            <a:ext cx="426708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505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4" name="Old%20chest" descr=""/>
          <p:cNvPicPr/>
          <p:nvPr/>
        </p:nvPicPr>
        <p:blipFill>
          <a:blip r:embed="rId4"/>
          <a:stretch/>
        </p:blipFill>
        <p:spPr>
          <a:xfrm>
            <a:off x="3657600" y="1676520"/>
            <a:ext cx="5230800" cy="34876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914400" y="304920"/>
            <a:ext cx="4876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igh Tower Text"/>
              </a:rPr>
              <a:t>At the top of  the old,old steps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igh Tower Text"/>
              <a:ea typeface="High Tower Tex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09480" y="3429000"/>
            <a:ext cx="3429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igh Tower Text"/>
              </a:rPr>
              <a:t>Was an old,old chest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igh Tower Text"/>
              <a:ea typeface="High Tower Tex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505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172200" y="3581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8" name="Hats" descr=""/>
          <p:cNvPicPr/>
          <p:nvPr/>
        </p:nvPicPr>
        <p:blipFill>
          <a:blip r:embed="rId2"/>
          <a:stretch/>
        </p:blipFill>
        <p:spPr>
          <a:xfrm>
            <a:off x="5334120" y="2057400"/>
            <a:ext cx="4240080" cy="32259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609480" y="380880"/>
            <a:ext cx="60292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igh Tower Text"/>
              </a:rPr>
              <a:t>In the old,old chest were some old,old hats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igh Tower Text"/>
              <a:ea typeface="High Tower Tex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505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095880" y="4267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1" name="Box" descr=""/>
          <p:cNvPicPr/>
          <p:nvPr/>
        </p:nvPicPr>
        <p:blipFill>
          <a:blip r:embed="rId2"/>
          <a:stretch/>
        </p:blipFill>
        <p:spPr>
          <a:xfrm>
            <a:off x="3657600" y="2776680"/>
            <a:ext cx="5486400" cy="36576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1219320" y="838080"/>
            <a:ext cx="62769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igh Tower Text"/>
              </a:rPr>
              <a:t>Under the old,old hats was an old,old box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igh Tower Text"/>
              <a:ea typeface="High Tower Tex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505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1219320" y="304920"/>
            <a:ext cx="6933960" cy="11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igh Tower Text"/>
              </a:rPr>
              <a:t>In the old,old box was an old,old ke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igh Tower Text"/>
              <a:ea typeface="High Tower Text"/>
            </a:endParaRPr>
          </a:p>
        </p:txBody>
      </p:sp>
      <p:pic>
        <p:nvPicPr>
          <p:cNvPr id="64" name="Key%201" descr=""/>
          <p:cNvPicPr/>
          <p:nvPr/>
        </p:nvPicPr>
        <p:blipFill>
          <a:blip r:embed="rId1"/>
          <a:stretch/>
        </p:blipFill>
        <p:spPr>
          <a:xfrm>
            <a:off x="223920" y="2128680"/>
            <a:ext cx="8696160" cy="2600640"/>
          </a:xfrm>
          <a:prstGeom prst="rect">
            <a:avLst/>
          </a:prstGeom>
          <a:ln w="0">
            <a:noFill/>
          </a:ln>
        </p:spPr>
      </p:pic>
      <p:pic>
        <p:nvPicPr>
          <p:cNvPr id="65" name="Key%202" descr=""/>
          <p:cNvPicPr/>
          <p:nvPr/>
        </p:nvPicPr>
        <p:blipFill>
          <a:blip r:embed="rId2"/>
          <a:stretch/>
        </p:blipFill>
        <p:spPr>
          <a:xfrm>
            <a:off x="380880" y="1905120"/>
            <a:ext cx="8439120" cy="2600280"/>
          </a:xfrm>
          <a:prstGeom prst="rect">
            <a:avLst/>
          </a:prstGeom>
          <a:ln w="0">
            <a:noFill/>
          </a:ln>
        </p:spPr>
      </p:pic>
      <p:pic>
        <p:nvPicPr>
          <p:cNvPr id="66" name="Key%201" descr=""/>
          <p:cNvPicPr/>
          <p:nvPr/>
        </p:nvPicPr>
        <p:blipFill>
          <a:blip r:embed="rId3"/>
          <a:stretch/>
        </p:blipFill>
        <p:spPr>
          <a:xfrm>
            <a:off x="223920" y="2128680"/>
            <a:ext cx="8696160" cy="2600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4191120" y="3733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505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1066680" y="685800"/>
            <a:ext cx="678204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igh Tower Text"/>
              </a:rPr>
              <a:t>Suddenly apeared a.........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igh Tower Text"/>
              <a:ea typeface="High Tower Text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505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71" name="Ghost" descr=""/>
          <p:cNvPicPr/>
          <p:nvPr/>
        </p:nvPicPr>
        <p:blipFill>
          <a:blip r:embed="rId2"/>
          <a:stretch/>
        </p:blipFill>
        <p:spPr>
          <a:xfrm>
            <a:off x="2590920" y="1371600"/>
            <a:ext cx="3450960" cy="40226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3886200" y="304920"/>
            <a:ext cx="41911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igh Tower Text"/>
              </a:rPr>
              <a:t>GHOST !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igh Tower Text"/>
              <a:ea typeface="High Tower Tex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10:34:36Z</dcterms:created>
  <dc:creator>4glenb2</dc:creator>
  <dc:description/>
  <dc:language>en-US</dc:language>
  <cp:lastModifiedBy>4glenb2</cp:lastModifiedBy>
  <dcterms:modified xsi:type="dcterms:W3CDTF">2009-10-14T10:37:48Z</dcterms:modified>
  <cp:revision>1</cp:revision>
  <dc:subject/>
  <dc:title>PowerPoint Presentation</dc:title>
</cp:coreProperties>
</file>